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4B52-0960-43D2-A638-41153D9A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70AF-07E5-470C-8120-AF7B7EFF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491C-C0AC-4C86-8D7F-5FA876C3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132B-E646-4EC7-B0E2-394028C6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9144-1BE0-412F-B5F9-BC04C584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2721-58E5-4082-BC6A-BA0C953F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B588-5735-465B-B9A2-6F3EFEFD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3D75-23B2-42E4-8529-27DB2495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99E7-B6D4-4CED-BB6A-51CAAE72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342B-184A-4F6C-A9A9-9AF7AFFD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42FF-8BFB-4DAF-885A-0F9D88CD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A0D1-1F97-4CC9-8E54-6A353AC0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9906-CA1C-4442-80F2-267A5910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36A8-7809-40B8-B2E7-5192EE98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7A98-29EF-42AF-A850-5CEE1495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55D5-B0E3-43AA-8ADD-25D5C2CB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1922-52C8-484A-B57D-61F0FBF8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BE14-9F61-4EBA-AABA-A4E9E50B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4A7C-368D-43E2-B625-C7530AC7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C5EA-EDD1-4246-9F66-1E91240E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965A-4F02-4AA7-A7FD-97C86371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AA5B-0646-4110-9DAA-E34BBAD1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D2C0-2AC8-405F-B818-93670E3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CC82-056C-45A6-9CCC-923E74D0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6496-82D0-41E2-8A7C-AD1E3D9625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F351-7178-4A54-A109-FE6AB678F0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Do Now (5 mins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rilliant deduction, Wats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!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Sherlock Holmes to his assistant after solving a murder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ed on this quote and it’s context, describe what you think deduction mea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educ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clusion based on the circumst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Check-in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fine the following two word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 - Logi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- Reaso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Logic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cience of reasoning; using common sen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Reasoning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ing a conclusion based on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evidenc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round you; all about PROO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reasoning in forensic sc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In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soning from detailed information to general fact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s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In 1991, 65% of criminals were male. Therefore, criminals are more likely to be me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De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ogical process in which a conclusion is drawn from a set of circumstance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vidence-ba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a suspect’s hands are covered in dirt, therefore, he must have been somewhere dir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fdef6"/>
                </a:solidFill>
                <a:latin typeface="Arial"/>
              </a:rPr>
              <a:t>In Forensic Science…</a:t>
            </a:r>
            <a:endParaRPr b="0" lang="en-US" sz="6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ductive reasonin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mportant in solving crim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3:04:58Z</dcterms:created>
  <dc:creator>justin.smith</dc:creator>
  <dc:description/>
  <dc:language>en-US</dc:language>
  <cp:lastModifiedBy>justin.smith</cp:lastModifiedBy>
  <dcterms:modified xsi:type="dcterms:W3CDTF">2011-11-16T20:08:03Z</dcterms:modified>
  <cp:revision>4</cp:revision>
  <dc:subject/>
  <dc:title>Do Now (5 mins)</dc:title>
</cp:coreProperties>
</file>